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50B-3169-4000-8E86-B0A9C622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743-8E86-4784-A2E4-4AF1E360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402-5C20-4997-AE72-018FE2D0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81F-DDCC-4DBE-8E38-9C62140A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E81B-073C-474B-8ED6-1BF42A3D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6822-762A-41CC-9BFC-8A1A7B8C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2351-EEA4-4652-B04C-6A90D38B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6050-5081-4131-8F8F-C15450AE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6223-C670-4A73-9803-16AAEC6A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3009-D2F9-49FC-9DBF-085C3686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D5F7-F842-4FD3-90EF-01AE589A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F6D-1A0C-435F-8343-6E0545D2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562B-C668-40D4-BC14-32508574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044A-3E0F-4A26-AB56-EC622E7D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1129-5AC6-4FA2-9E0B-1EF23FE4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1C1F-5EBE-4FE7-8428-F15E70A0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B825-1D7D-4942-B5D1-4190E857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23E-6E88-426B-9D03-CBF445A8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103-A43B-4DC4-A285-B1071B53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262-FD6C-4B7D-9D22-BEC4CC7F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77E-0279-4410-A383-CEECCE8D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EFE-E6E0-48E3-B9B1-9B5CDB71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2A3-31D0-4F16-804E-F3E8EBE2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FCB-FE10-4B35-9E0C-04F54698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7285-A2A5-4434-B77A-839DE5D3E7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61AF-A309-41B7-ABB7-2EA063A892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rm-Up Sentenc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25 million Tennis balls is put into play every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od you believe that the traditional trade of those whom most often become spanish bullfighters are brickla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Journal #15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liday I wish we had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rm-Up Sentenc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ce did not float.  (this is called a hypothetical question) Tons of it at both the north pole and the south pole would sink, covering the earth with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ston rockets won back to back championships.  In the National Basketball Association (nba) in 1994 and 199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Journal #16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3581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hort story based on the pictu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516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riday Warm-up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ffect/Eff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ffec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verb) – to influ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) Your criticism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fec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ople in a negative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ffec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noun) – the result of some a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) New Englanders have felt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ff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ther Nature this wi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8686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oose the proper word to make the sentence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don’t think you realize how your comments (affect, effect) your fri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The (affects, effects) of the storm were disastrous along the Louisiana coa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That medicine did have an (affect, effect) on my headach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46:10Z</dcterms:created>
  <dc:creator>tpagel</dc:creator>
  <dc:description/>
  <dc:language>en-US</dc:language>
  <cp:lastModifiedBy>tpagel</cp:lastModifiedBy>
  <dcterms:modified xsi:type="dcterms:W3CDTF">2010-06-03T16:46:38Z</dcterms:modified>
  <cp:revision>1</cp:revision>
  <dc:subject/>
  <dc:title>Warm-Up Sentences</dc:title>
</cp:coreProperties>
</file>